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B572-46ED-44E7-9CBC-D53BC4AF0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90FDB-0C15-430A-8735-9F88963B6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5FFD1-2FDC-4F1C-A778-CA0E695E9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CAABA-D2B4-4BC6-AFC1-C6C21C78A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06CD3-9223-4EF3-9CCB-F2CDD407A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D92B72-44BD-46E3-8E0B-DB93EACA51B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7FBFFF-FF50-4797-9C53-3AA20E6233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B5A920-FB44-460D-BE44-019AFA588E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BAAAA-8AB6-42B1-9D7F-1E0463E634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61F9BF-7FFE-46AB-AD6B-F95A99F3E2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7F7C81-5D2A-4817-866C-E972171D36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8F571-FDFC-48E0-AAAE-25B2910BA3D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499B-8182-4244-A702-70D7C48C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B79FD-D38E-407E-BFCE-435435FCD8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E3494B-B435-433C-B084-CC76206C65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08F47-F4EA-4734-A452-81087B3E10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C37012-CA91-4C6C-9B36-8F9BE2B7FF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6E5D9-693F-42EA-B7AB-CEF28262B4F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7E4EA-8EAD-44BD-B28E-9EBAEFD92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EBAEC-189A-44A0-AB89-37C9BC3E8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920CD-E709-47CE-AF61-33A5DB3D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4D3C2-674C-4F0B-8BC5-4E84E0036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96CF-15BA-4C64-8092-7E8512A44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0563-FC90-4B57-8A30-31BB5C87B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311B-14B5-4D54-924A-5FF9B1333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7CB7-B022-40A4-87DA-E98CDD3306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85D4-D9EB-408A-B267-9D4509256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3200" spc="-1" strike="noStrike">
                <a:solidFill>
                  <a:srgbClr val="ffffff"/>
                </a:solidFill>
                <a:latin typeface="Tahoma"/>
              </a:rPr>
              <a:t>Summary of Titus</a:t>
            </a:r>
            <a:endParaRPr b="0" lang="en-US" sz="3200" spc="-1" strike="noStrike">
              <a:solidFill>
                <a:srgbClr val="ffffff"/>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2, Lesson 2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u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243 - 24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itus 1</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stle from Paul to Titus, a true son in our common faith</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us was left in Crete for the purpose of appointing eld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cations are similar to those outlined in 1 Timothy 3</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is stressed more to convict false teach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ders were to be prepared to rebuke sharp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itus 2</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stressed character traits that older members must posse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er members were given guidelin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ndservants were told how they should conduct themselv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then stressed general require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us was instructed to be bold in his condu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itus 3</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tus was reminded to instruct the church concerning dealings with all m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rs were to be careful to maintain good work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were instructed to avoid foolish disputes, contentions, and striv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informs Titus about his pla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ul’s activities</a:t>
            </a:r>
            <a:endParaRPr b="0" lang="en-US" sz="4000" spc="-1" strike="noStrike">
              <a:solidFill>
                <a:srgbClr val="ffffff"/>
              </a:solidFill>
              <a:latin typeface="Tahoma"/>
            </a:endParaRPr>
          </a:p>
        </p:txBody>
      </p:sp>
      <p:sp>
        <p:nvSpPr>
          <p:cNvPr id="99" name="PlaceHolder 2"/>
          <p:cNvSpPr>
            <a:spLocks noGrp="1"/>
          </p:cNvSpPr>
          <p:nvPr>
            <p:ph/>
          </p:nvPr>
        </p:nvSpPr>
        <p:spPr>
          <a:xfrm>
            <a:off x="533520" y="1904760"/>
            <a:ext cx="82296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seems that Paul wrote the first epistle to Timothy and the epistle to Titus after being released from prison in Rom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 travels are speculative during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92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ersecution Under Nero</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July 19, 64 A.D. a fire destroyed a large portion of Rom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ro blamed Christian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man government instigated persecu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ro was brutal and ruthles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rtyrdom of Peter and Paul</a:t>
            </a:r>
            <a:endParaRPr b="0" lang="en-US" sz="4400" spc="-1" strike="noStrike">
              <a:solidFill>
                <a:srgbClr val="ffffff"/>
              </a:solidFill>
              <a:latin typeface="Tahoma"/>
            </a:endParaRPr>
          </a:p>
        </p:txBody>
      </p:sp>
      <p:sp>
        <p:nvSpPr>
          <p:cNvPr id="103"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were slain in Rome by Ner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r was crucifi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was behead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mans tortured their victims for pleas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saints were killed in R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3-08T02:27:51Z</dcterms:modified>
  <cp:revision>33</cp:revision>
  <dc:subject/>
  <dc:title>Life of Christ, Part 2 In Perea</dc:title>
</cp:coreProperties>
</file>